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885D-803E-4D23-A00D-12507265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D75-C470-4A7C-92F1-EA677DDD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F1B-3319-483D-A35D-3589AA7B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3675-8AE5-4B31-9F49-2F8C53E6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57F-05AF-4BB0-9A91-6C83D81C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EBF2-8833-4758-AD32-38C5BCAD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ABA-0EFA-4D30-A49B-BA8F35F3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AB61-F9AE-46B3-A3D3-7B45F6F4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562-C465-46AB-A727-36996AD3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BB4-1C39-4B52-A712-B326B068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1E5-E44B-4BDB-83D0-10061682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58B-329E-4F07-9892-15129E32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FB2E-17B1-4441-AC87-F098B7FB7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260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uture of V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907920"/>
            <a:ext cx="7056360" cy="65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S is an A to N, which is generally limited to local or regional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S interacts with ships and principally provides TOS, NAS and IS.  It may also fulfil other functions as described in A 857(2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 introduction of A 857(20), the monitoring of, and interaction with, vessels has become a global activity (LRIT and A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and efficiency considerations now necessitate pre-arrival information well before arrival in a VTS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e organisations at local, regional and national level need to interact with vessels world w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92360" y="18900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Global Interaction with Vessel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5327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, no international organisation is co-ordinating or providing guidance on this global interaction with vess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thus a role to be filled in the context of vessel traffic, and at a level higher than traditional V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might be provided b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ssel Traffic Management” (VT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M is as yet undefined formally.  One possible definition is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VTM is a collection of global activities supported by   information services which, improve the safety, security, efficiency and environmental protection of vessels and cargo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47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268280"/>
            <a:ext cx="8497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M would therefore comprise VTS as a central component, but also other activities, such as LRIT , Law Enforcement and 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ctivities are supported by the exchange of information, to be known as VT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557360"/>
            <a:ext cx="71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T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-108000" y="-6336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-63360"/>
                    <a:ext cx="9252000" cy="6921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843280" y="333360"/>
            <a:ext cx="360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Safety, security, efficiency, environmental prot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19280" y="2997360"/>
            <a:ext cx="547380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141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7640" y="306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2997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3500280"/>
            <a:ext cx="12967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7080" y="3429000"/>
            <a:ext cx="14414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427640" y="2060280"/>
            <a:ext cx="0" cy="718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060640"/>
            <a:ext cx="9144000" cy="446400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948360" y="4005360"/>
            <a:ext cx="503280" cy="792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834920" y="4076280"/>
            <a:ext cx="14436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021360"/>
            <a:ext cx="1332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67640" y="6021360"/>
            <a:ext cx="1189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867280" y="4076280"/>
            <a:ext cx="43344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627280" y="4076280"/>
            <a:ext cx="28908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276720" y="4076280"/>
            <a:ext cx="115092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o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5445000"/>
            <a:ext cx="2448000" cy="64260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VT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00720" y="4149720"/>
            <a:ext cx="936360" cy="719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105264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2536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1258560" y="1844280"/>
            <a:ext cx="360360" cy="647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1844280"/>
            <a:ext cx="43200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94920" y="5516640"/>
            <a:ext cx="289080" cy="360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17080" y="5661000"/>
            <a:ext cx="215640" cy="21600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47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268280"/>
            <a:ext cx="84978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VTM would therefore comprise VTS as a central component, but also other activities, such as LRIT , Law Enforcement and 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These activities are supported by the exchange of information, to be known as VT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ALA should structure its committees to provide guidance, where appropriate, on VTM iss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is end, it is suggested that  the VTS Committee be re-named the VTM Committee and adjusts its work programme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1557360"/>
            <a:ext cx="71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47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VTM and E-Nav 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268280"/>
            <a:ext cx="7056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ole of the VTM committee would include the specification of VTM functional needs and the provision of VTM guidance and recommendation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E-Nav (and other committees such ANM) would provide technical guidance on how those functional needs are best deliv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functional needs could include shore-to-shore and  shore-to-ship information exchange.  It could also influence future ship-to-ship data exchange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T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843280" y="333360"/>
            <a:ext cx="360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Safety, security, efficiency, environmental prot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619280" y="2997360"/>
            <a:ext cx="547380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19280" y="3141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306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93080" y="2997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3500280"/>
            <a:ext cx="12967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3429000"/>
            <a:ext cx="14414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427640" y="2060280"/>
            <a:ext cx="0" cy="718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060640"/>
            <a:ext cx="9144000" cy="446400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48360" y="4005360"/>
            <a:ext cx="503280" cy="792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834920" y="4076280"/>
            <a:ext cx="14436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021360"/>
            <a:ext cx="1332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67640" y="6021360"/>
            <a:ext cx="1189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867280" y="4076280"/>
            <a:ext cx="43344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627280" y="4076280"/>
            <a:ext cx="28908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276720" y="4076280"/>
            <a:ext cx="115092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o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5661000"/>
            <a:ext cx="2448000" cy="64260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VT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4149720"/>
            <a:ext cx="936360" cy="719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4149720"/>
            <a:ext cx="6553080" cy="1512720"/>
          </a:xfrm>
          <a:prstGeom prst="rect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4149720"/>
            <a:ext cx="66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- Nav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harmonisation of the means for collecting, distributing and presenting information related to maritime safety, security, efficiency and environmental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08720" y="105264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12536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451640" y="1844280"/>
            <a:ext cx="43344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1476360" y="1916280"/>
            <a:ext cx="287280" cy="5047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17080" y="5589720"/>
            <a:ext cx="215640" cy="215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68360" y="5589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39640" y="5589720"/>
            <a:ext cx="216000" cy="28728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2:38:29Z</dcterms:created>
  <dc:creator>BruceR</dc:creator>
  <dc:description/>
  <dc:language>en-US</dc:language>
  <cp:lastModifiedBy>BruceR</cp:lastModifiedBy>
  <dcterms:modified xsi:type="dcterms:W3CDTF">2006-09-14T12:19:06Z</dcterms:modified>
  <cp:revision>11</cp:revision>
  <dc:subject/>
  <dc:title>Slide 1</dc:title>
</cp:coreProperties>
</file>